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CB5E-1D20-44F7-81DE-8D66FEF39DCB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_assembl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431)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ORD_SYSTEM_CARTESIAN_3D ('My coord sys', 'Assembly Coordinate System', $, 3, #246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ASSEMBLY_MANUFACTURING (1, 'M1', 'floor plate', 'preliminary', 1, .LOW., 'my treatment',  '4,  3, 2,  5',  'my use',  .SHOP_PROCESS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STRUCTURE (4556,  'my structure', 'my description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90480" y="1657440"/>
            <a:ext cx="2167200" cy="493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04960" y="1657440"/>
            <a:ext cx="4597200" cy="17240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53840" y="1724040"/>
            <a:ext cx="5832360" cy="3251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ion_on_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#3101, 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#1121,  #129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OFFS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3,  #13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INTERSECTION ('1A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#1372,  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LEVEL ('my level',  #1376,  #1375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1',  #1377,  #1375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3 = GRIDLINE ('gridline 2',  #1378,  #1375,  #1372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A',  #1379,  #1375,  #137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5 = GRID ('my grid',  'my description',  'my use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75800" y="1711440"/>
            <a:ext cx="3387960" cy="458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uilding Complex (CC133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8901 = BUILDING_COMPLEX (654789,  'Coffee Man',  'Food &amp; Beverage Facility',  #55501,  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BUILDING (31556,  'Coffee Extractor',  $,  'Class 1',  #45007,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STRUCTURE (987654,  'Example Structure',  'Support structure for two coffee extracto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tting Out Point (CC15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4901 = SETTING_OUT_POINT (#55501,  #10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5501 = SITE (2143,  'Site X',  $,  #40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03 = ADDRESS ($,  '15',  'High Street',  $,  'Miami',  'Florida',  '123466',  'USA',  $,  $,  $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1 = GLOBAL_LOCATION (#1002,  'mean sea level',  25,  33,  $,  -80,  21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2 = LENGTH_MEASURE_WITH_UNIT (LENGTH_MEASURE(1200.0),  #1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Organization (CC149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701 = PROJECT (12345,  'Worked Example 2',  'AISC Workshop 2 Case Study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801 = PROJECT_ORGANIZATION (#45011,  #47701,  #451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101 = PERSON_AND_ORGANIZATION_ROLE ('Lead Engineer of Record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011 = PERSON_AND_ORGANIZATION (#44904,  #41707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4904 = PERSON ('32',  'Holland',  'Mark',  ('V'),  ('Mr'),  ('P.E.'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1707 = ORGANIZATION ('HCI',  'Hamburg Consulting,  Inc',  'Consulting Enginee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00320" y="92160"/>
          <a:ext cx="6858000" cy="61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92160"/>
                    <a:ext cx="68580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389880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uild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_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zon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78280" y="838080"/>
            <a:ext cx="57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520" y="219240"/>
            <a:ext cx="73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600" y="777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4280" y="839880"/>
            <a:ext cx="1850040" cy="398880"/>
            <a:chOff x="1214280" y="839880"/>
            <a:chExt cx="1850040" cy="398880"/>
          </a:xfrm>
        </p:grpSpPr>
        <p:sp>
          <p:nvSpPr>
            <p:cNvPr id="98" name=""/>
            <p:cNvSpPr/>
            <p:nvPr/>
          </p:nvSpPr>
          <p:spPr>
            <a:xfrm>
              <a:off x="1438920" y="839880"/>
              <a:ext cx="16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4280" y="9716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"/>
          <p:cNvCxnSpPr>
            <a:stCxn id="95" idx="2"/>
            <a:endCxn id="99" idx="2"/>
          </p:cNvCxnSpPr>
          <p:nvPr/>
        </p:nvCxnSpPr>
        <p:spPr>
          <a:xfrm flipH="1" rot="16200000">
            <a:off x="767160" y="647280"/>
            <a:ext cx="40716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1214280" y="1362240"/>
            <a:ext cx="2346480" cy="398880"/>
            <a:chOff x="1214280" y="1362240"/>
            <a:chExt cx="2346480" cy="398880"/>
          </a:xfrm>
        </p:grpSpPr>
        <p:sp>
          <p:nvSpPr>
            <p:cNvPr id="102" name=""/>
            <p:cNvSpPr/>
            <p:nvPr/>
          </p:nvSpPr>
          <p:spPr>
            <a:xfrm>
              <a:off x="1453680" y="1362240"/>
              <a:ext cx="210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4280" y="1493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5" idx="2"/>
            <a:endCxn id="105" idx="2"/>
          </p:cNvCxnSpPr>
          <p:nvPr/>
        </p:nvCxnSpPr>
        <p:spPr>
          <a:xfrm flipH="1" rot="16200000">
            <a:off x="234720" y="1180080"/>
            <a:ext cx="147240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726912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1600" y="6858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2"/>
            <a:endCxn id="98" idx="3"/>
          </p:cNvCxnSpPr>
          <p:nvPr/>
        </p:nvCxnSpPr>
        <p:spPr>
          <a:xfrm flipV="1" rot="10800000">
            <a:off x="3091680" y="1048320"/>
            <a:ext cx="4163040" cy="3960"/>
          </a:xfrm>
          <a:prstGeom prst="bentConnector3">
            <a:avLst>
              <a:gd name="adj1" fmla="val 49995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09" name=""/>
          <p:cNvGrpSpPr/>
          <p:nvPr/>
        </p:nvGrpSpPr>
        <p:grpSpPr>
          <a:xfrm>
            <a:off x="1214280" y="1905120"/>
            <a:ext cx="2457360" cy="398880"/>
            <a:chOff x="1214280" y="1905120"/>
            <a:chExt cx="2457360" cy="398880"/>
          </a:xfrm>
        </p:grpSpPr>
        <p:sp>
          <p:nvSpPr>
            <p:cNvPr id="110" name=""/>
            <p:cNvSpPr/>
            <p:nvPr/>
          </p:nvSpPr>
          <p:spPr>
            <a:xfrm>
              <a:off x="1450440" y="1905120"/>
              <a:ext cx="22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4280" y="2036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14280" y="2438280"/>
            <a:ext cx="2232000" cy="398880"/>
            <a:chOff x="1214280" y="2438280"/>
            <a:chExt cx="2232000" cy="398880"/>
          </a:xfrm>
        </p:grpSpPr>
        <p:sp>
          <p:nvSpPr>
            <p:cNvPr id="112" name=""/>
            <p:cNvSpPr/>
            <p:nvPr/>
          </p:nvSpPr>
          <p:spPr>
            <a:xfrm>
              <a:off x="1451880" y="2438280"/>
              <a:ext cx="199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4280" y="2570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214280" y="2971800"/>
            <a:ext cx="2106000" cy="398880"/>
            <a:chOff x="1214280" y="2971800"/>
            <a:chExt cx="2106000" cy="398880"/>
          </a:xfrm>
        </p:grpSpPr>
        <p:sp>
          <p:nvSpPr>
            <p:cNvPr id="115" name=""/>
            <p:cNvSpPr/>
            <p:nvPr/>
          </p:nvSpPr>
          <p:spPr>
            <a:xfrm>
              <a:off x="1452600" y="2971800"/>
              <a:ext cx="1867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boun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4280" y="31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7" name=""/>
          <p:cNvCxnSpPr>
            <a:stCxn id="95" idx="2"/>
            <a:endCxn id="113" idx="2"/>
          </p:cNvCxnSpPr>
          <p:nvPr/>
        </p:nvCxnSpPr>
        <p:spPr>
          <a:xfrm flipH="1" rot="16200000">
            <a:off x="-32040" y="1446840"/>
            <a:ext cx="20059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95" idx="1"/>
            <a:endCxn id="116" idx="2"/>
          </p:cNvCxnSpPr>
          <p:nvPr/>
        </p:nvCxnSpPr>
        <p:spPr>
          <a:xfrm flipH="1" flipV="1" rot="10800000">
            <a:off x="359280" y="431280"/>
            <a:ext cx="826200" cy="2766240"/>
          </a:xfrm>
          <a:prstGeom prst="bentConnector3">
            <a:avLst>
              <a:gd name="adj1" fmla="val -2593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95" idx="2"/>
            <a:endCxn id="103" idx="2"/>
          </p:cNvCxnSpPr>
          <p:nvPr/>
        </p:nvCxnSpPr>
        <p:spPr>
          <a:xfrm flipH="1" rot="16200000">
            <a:off x="506160" y="908640"/>
            <a:ext cx="9295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6674040" y="1362240"/>
            <a:ext cx="10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64160" y="1479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8560" y="120816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2"/>
            <a:endCxn id="102" idx="3"/>
          </p:cNvCxnSpPr>
          <p:nvPr/>
        </p:nvCxnSpPr>
        <p:spPr>
          <a:xfrm flipV="1" rot="10800000">
            <a:off x="3588480" y="1572840"/>
            <a:ext cx="2861280" cy="216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6607080" y="190512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2022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4880" y="17524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2"/>
            <a:endCxn id="110" idx="3"/>
          </p:cNvCxnSpPr>
          <p:nvPr/>
        </p:nvCxnSpPr>
        <p:spPr>
          <a:xfrm flipV="1" rot="10800000">
            <a:off x="3696480" y="2115000"/>
            <a:ext cx="2689920" cy="252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2400" y="2428920"/>
            <a:ext cx="945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4320" y="2546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2520" y="22860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12" idx="3"/>
          </p:cNvCxnSpPr>
          <p:nvPr/>
        </p:nvCxnSpPr>
        <p:spPr>
          <a:xfrm flipV="1" rot="10800000">
            <a:off x="3472560" y="2638800"/>
            <a:ext cx="2007360" cy="1188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776840" y="3963960"/>
            <a:ext cx="1473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08120" y="45720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110280" y="5684760"/>
            <a:ext cx="1722600" cy="398880"/>
            <a:chOff x="6110280" y="5684760"/>
            <a:chExt cx="1722600" cy="398880"/>
          </a:xfrm>
        </p:grpSpPr>
        <p:sp>
          <p:nvSpPr>
            <p:cNvPr id="135" name=""/>
            <p:cNvSpPr/>
            <p:nvPr/>
          </p:nvSpPr>
          <p:spPr>
            <a:xfrm>
              <a:off x="6335280" y="5684760"/>
              <a:ext cx="149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10280" y="58165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" name=""/>
          <p:cNvCxnSpPr>
            <a:stCxn id="132" idx="2"/>
            <a:endCxn id="136" idx="2"/>
          </p:cNvCxnSpPr>
          <p:nvPr/>
        </p:nvCxnSpPr>
        <p:spPr>
          <a:xfrm flipH="1" rot="16200000">
            <a:off x="5043240" y="4872600"/>
            <a:ext cx="1506960" cy="56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38" name=""/>
          <p:cNvGrpSpPr/>
          <p:nvPr/>
        </p:nvGrpSpPr>
        <p:grpSpPr>
          <a:xfrm>
            <a:off x="6076800" y="5156280"/>
            <a:ext cx="2218680" cy="398880"/>
            <a:chOff x="6076800" y="5156280"/>
            <a:chExt cx="2218680" cy="398880"/>
          </a:xfrm>
        </p:grpSpPr>
        <p:sp>
          <p:nvSpPr>
            <p:cNvPr id="139" name=""/>
            <p:cNvSpPr/>
            <p:nvPr/>
          </p:nvSpPr>
          <p:spPr>
            <a:xfrm>
              <a:off x="6316560" y="515628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6800" y="5288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1" name=""/>
          <p:cNvCxnSpPr>
            <a:stCxn id="132" idx="2"/>
            <a:endCxn id="142" idx="2"/>
          </p:cNvCxnSpPr>
          <p:nvPr/>
        </p:nvCxnSpPr>
        <p:spPr>
          <a:xfrm flipH="1" rot="16200000">
            <a:off x="5578560" y="4338360"/>
            <a:ext cx="4053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6313680" y="458316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76800" y="47149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2" idx="2"/>
            <a:endCxn id="140" idx="2"/>
          </p:cNvCxnSpPr>
          <p:nvPr/>
        </p:nvCxnSpPr>
        <p:spPr>
          <a:xfrm flipH="1" rot="16200000">
            <a:off x="5292000" y="4624920"/>
            <a:ext cx="9784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812340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8880" y="1479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64440" y="2354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5" idx="3"/>
            <a:endCxn id="145" idx="6"/>
          </p:cNvCxnSpPr>
          <p:nvPr/>
        </p:nvCxnSpPr>
        <p:spPr>
          <a:xfrm flipV="1">
            <a:off x="7861320" y="1049040"/>
            <a:ext cx="464400" cy="4848480"/>
          </a:xfrm>
          <a:prstGeom prst="bentConnector3">
            <a:avLst>
              <a:gd name="adj1" fmla="val 21675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9" idx="3"/>
            <a:endCxn id="146" idx="6"/>
          </p:cNvCxnSpPr>
          <p:nvPr/>
        </p:nvCxnSpPr>
        <p:spPr>
          <a:xfrm flipH="1" flipV="1">
            <a:off x="7979760" y="1572840"/>
            <a:ext cx="345240" cy="3796560"/>
          </a:xfrm>
          <a:prstGeom prst="bentConnector3">
            <a:avLst>
              <a:gd name="adj1" fmla="val -622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3" idx="0"/>
            <a:endCxn id="147" idx="4"/>
          </p:cNvCxnSpPr>
          <p:nvPr/>
        </p:nvCxnSpPr>
        <p:spPr>
          <a:xfrm flipH="1" flipV="1">
            <a:off x="7357320" y="2555280"/>
            <a:ext cx="3960" cy="201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2867400" y="517680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74600" y="450360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15" idx="2"/>
            <a:endCxn id="154" idx="2"/>
          </p:cNvCxnSpPr>
          <p:nvPr/>
        </p:nvCxnSpPr>
        <p:spPr>
          <a:xfrm flipH="1" rot="16200000">
            <a:off x="1854000" y="3943800"/>
            <a:ext cx="1285200" cy="219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2620800" y="4602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37000" y="5324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5240" y="4078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2" idx="3"/>
            <a:endCxn id="156" idx="2"/>
          </p:cNvCxnSpPr>
          <p:nvPr/>
        </p:nvCxnSpPr>
        <p:spPr>
          <a:xfrm flipV="1">
            <a:off x="3906360" y="4171680"/>
            <a:ext cx="654840" cy="54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2"/>
            <a:endCxn id="155" idx="2"/>
          </p:cNvCxnSpPr>
          <p:nvPr/>
        </p:nvCxnSpPr>
        <p:spPr>
          <a:xfrm flipH="1" rot="16200000">
            <a:off x="1224720" y="4019760"/>
            <a:ext cx="2037240" cy="759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170820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452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1" idx="3"/>
            <a:endCxn id="162" idx="4"/>
          </p:cNvCxnSpPr>
          <p:nvPr/>
        </p:nvCxnSpPr>
        <p:spPr>
          <a:xfrm flipV="1">
            <a:off x="4168800" y="4608000"/>
            <a:ext cx="813600" cy="78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888080" y="4406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160" y="3422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880" y="47671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s S[1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86280" y="4554360"/>
            <a:ext cx="1079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0120" y="454968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8720" y="455148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4338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5500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468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3"/>
            <a:endCxn id="170" idx="2"/>
          </p:cNvCxnSpPr>
          <p:nvPr/>
        </p:nvCxnSpPr>
        <p:spPr>
          <a:xfrm flipV="1">
            <a:off x="1950840" y="4761720"/>
            <a:ext cx="181980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9" idx="0"/>
            <a:endCxn id="173" idx="3"/>
          </p:cNvCxnSpPr>
          <p:nvPr/>
        </p:nvCxnSpPr>
        <p:spPr>
          <a:xfrm flipV="1" rot="16200000">
            <a:off x="5851800" y="2009880"/>
            <a:ext cx="2199600" cy="2394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509904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4" idx="6"/>
            <a:endCxn id="166" idx="1"/>
          </p:cNvCxnSpPr>
          <p:nvPr/>
        </p:nvCxnSpPr>
        <p:spPr>
          <a:xfrm>
            <a:off x="5300640" y="4762080"/>
            <a:ext cx="220104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2223000" y="43894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7840" y="4402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88960" y="5751360"/>
            <a:ext cx="8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0"/>
            <a:endCxn id="180" idx="4"/>
          </p:cNvCxnSpPr>
          <p:nvPr/>
        </p:nvCxnSpPr>
        <p:spPr>
          <a:xfrm flipV="1" rot="16200000">
            <a:off x="2727000" y="3872880"/>
            <a:ext cx="527760" cy="320112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807876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0"/>
            <a:endCxn id="181" idx="4"/>
          </p:cNvCxnSpPr>
          <p:nvPr/>
        </p:nvCxnSpPr>
        <p:spPr>
          <a:xfrm flipH="1" flipV="1" rot="5400000">
            <a:off x="6117840" y="3682800"/>
            <a:ext cx="527760" cy="358200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29708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67" idx="1"/>
            <a:endCxn id="168" idx="0"/>
          </p:cNvCxnSpPr>
          <p:nvPr/>
        </p:nvCxnSpPr>
        <p:spPr>
          <a:xfrm flipH="1" rot="10800000">
            <a:off x="887400" y="4323600"/>
            <a:ext cx="311760" cy="440640"/>
          </a:xfrm>
          <a:prstGeom prst="bentConnector4">
            <a:avLst>
              <a:gd name="adj1" fmla="val -169479"/>
              <a:gd name="adj2" fmla="val 148732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73" name=""/>
          <p:cNvSpPr/>
          <p:nvPr/>
        </p:nvSpPr>
        <p:spPr>
          <a:xfrm>
            <a:off x="3543480" y="1895400"/>
            <a:ext cx="219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16000" y="3306600"/>
            <a:ext cx="20811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30733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0"/>
            <a:endCxn id="173" idx="2"/>
          </p:cNvCxnSpPr>
          <p:nvPr/>
        </p:nvCxnSpPr>
        <p:spPr>
          <a:xfrm flipH="1" flipV="1" rot="5400000">
            <a:off x="3498480" y="1901160"/>
            <a:ext cx="710280" cy="1577160"/>
          </a:xfrm>
          <a:prstGeom prst="bentConnector3">
            <a:avLst>
              <a:gd name="adj1" fmla="val 4898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3808440" y="496800"/>
            <a:ext cx="165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5268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0"/>
            <a:endCxn id="173" idx="1"/>
          </p:cNvCxnSpPr>
          <p:nvPr/>
        </p:nvCxnSpPr>
        <p:spPr>
          <a:xfrm flipH="1" flipV="1" rot="5400000">
            <a:off x="1487880" y="2265840"/>
            <a:ext cx="2199600" cy="1883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422400" y="1758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47360" y="1725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41760" y="16621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0"/>
            <a:endCxn id="187" idx="2"/>
          </p:cNvCxnSpPr>
          <p:nvPr/>
        </p:nvCxnSpPr>
        <p:spPr>
          <a:xfrm flipV="1">
            <a:off x="4635000" y="936000"/>
            <a:ext cx="1080" cy="711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681080" y="10857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07320" y="287280"/>
            <a:ext cx="2082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94560" y="611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2"/>
            <a:endCxn id="187" idx="3"/>
          </p:cNvCxnSpPr>
          <p:nvPr/>
        </p:nvCxnSpPr>
        <p:spPr>
          <a:xfrm flipV="1" rot="10800000">
            <a:off x="5476320" y="703800"/>
            <a:ext cx="1203840" cy="5400"/>
          </a:xfrm>
          <a:prstGeom prst="bentConnector3">
            <a:avLst>
              <a:gd name="adj1" fmla="val 499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5699160" y="360360"/>
            <a:ext cx="75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2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8200" y="3292560"/>
            <a:ext cx="17035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graphic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0760" y="35863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84" idx="3"/>
            <a:endCxn id="200" idx="2"/>
          </p:cNvCxnSpPr>
          <p:nvPr/>
        </p:nvCxnSpPr>
        <p:spPr>
          <a:xfrm>
            <a:off x="4111560" y="3672000"/>
            <a:ext cx="1775520" cy="8640"/>
          </a:xfrm>
          <a:prstGeom prst="bentConnector3">
            <a:avLst>
              <a:gd name="adj1" fmla="val 4998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4119120" y="332100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olutio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 Level (Horizont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98480" y="3222720"/>
            <a:ext cx="5810400" cy="920520"/>
          </a:xfrm>
          <a:prstGeom prst="parallelogram">
            <a:avLst>
              <a:gd name="adj" fmla="val 157802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143160" y="1936440"/>
            <a:ext cx="0" cy="222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43160" y="4151160"/>
            <a:ext cx="469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1150560" y="2896920"/>
            <a:ext cx="1971720" cy="125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7760" y="153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78960" y="394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1760" y="240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35240" y="4136760"/>
            <a:ext cx="1460520" cy="14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857760" y="4206960"/>
            <a:ext cx="793440" cy="63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141720" y="2652480"/>
            <a:ext cx="1440" cy="1508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62320" y="1278000"/>
            <a:ext cx="475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0.0,  0.0,  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horizont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06880" y="2174760"/>
            <a:ext cx="984240" cy="90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6200" y="47386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54320" y="4238280"/>
            <a:ext cx="84132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line (Vertic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1769400" y="2293920"/>
            <a:ext cx="3476520" cy="1365480"/>
          </a:xfrm>
          <a:prstGeom prst="parallelogram">
            <a:avLst>
              <a:gd name="adj" fmla="val 6365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191120" y="1349280"/>
            <a:ext cx="0" cy="222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3564000"/>
            <a:ext cx="3047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198160" y="2309760"/>
            <a:ext cx="1971720" cy="125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05360" y="944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34720" y="337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9360" y="181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67360" y="3564000"/>
            <a:ext cx="171432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254480" y="4254120"/>
            <a:ext cx="65088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3587760"/>
            <a:ext cx="0" cy="1397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0.0,  0.0,  -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8600" y="1405080"/>
            <a:ext cx="433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vertic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" y="42940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016240" y="2746440"/>
            <a:ext cx="174600" cy="7938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587680" y="3540240"/>
            <a:ext cx="1571400" cy="730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: Plan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 = (LENGTH_UNIT() NAMED_UNIT(*) SI_UNIT(.MILLI., 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1 = GRID_LEVEL ('my grid level',  #12,  #2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2 = AXIS2_PLACEMENT_3D ('axes for plane',  #13,  #14,  #15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3 = CARTESIAN_POINT ('point for plane axes',  (0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4 = DIRECTION ('z-vector for horizontal plane',  (0.0,  0.0,  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5 = DIRECTION ('x-vector for horizontal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2 = AXIS2_PLACEMENT_3D ('2nd axes',  #13,  #20,  #2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0 = DIRECTION ('z-vector for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1 = DIRECTION ('x-vector for plane',  (0.0,  0.0,  -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 = GRIDLINE ('my gridline',  #22,  #26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4 = (GEOMETRIC_REPRESENTATION_CONTEXT(3) GLOBAL_UNIT_ASSIGNED_CONTEXT((#5)) REPRESENTATION_CONTEXT('context id', 'context for planes'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5 = REPRESENTATION ('rep for two planes',  (#11,  #23),  #2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6 = GRID (‘my grid’,  $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Parts &amp; J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3"/>
            <a:endCxn id="245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38" idx="0"/>
            <a:endCxn id="252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44" idx="2"/>
            <a:endCxn id="247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4" idx="2"/>
            <a:endCxn id="241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259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0"/>
            <a:endCxn id="238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2"/>
            <a:endCxn id="259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8" idx="0"/>
            <a:endCxn id="261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40" idx="3"/>
            <a:endCxn id="271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57" idx="3"/>
            <a:endCxn id="278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6" idx="2"/>
            <a:endCxn id="279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18720" y="561816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5" idx="3"/>
            <a:endCxn id="286" idx="2"/>
          </p:cNvCxnSpPr>
          <p:nvPr/>
        </p:nvCxnSpPr>
        <p:spPr>
          <a:xfrm>
            <a:off x="1968480" y="1184040"/>
            <a:ext cx="183096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216000" y="2287440"/>
            <a:ext cx="2246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2920" y="20606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11880" y="24400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7" idx="3"/>
            <a:endCxn id="289" idx="2"/>
          </p:cNvCxnSpPr>
          <p:nvPr/>
        </p:nvCxnSpPr>
        <p:spPr>
          <a:xfrm>
            <a:off x="2476080" y="2500200"/>
            <a:ext cx="4722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2958120" y="2119320"/>
            <a:ext cx="23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5720" y="81900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50520" y="8366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5" idx="2"/>
            <a:endCxn id="288" idx="0"/>
          </p:cNvCxnSpPr>
          <p:nvPr/>
        </p:nvCxnSpPr>
        <p:spPr>
          <a:xfrm flipH="1" rot="16200000">
            <a:off x="898560" y="1793520"/>
            <a:ext cx="468720" cy="8640"/>
          </a:xfrm>
          <a:prstGeom prst="bentConnector3">
            <a:avLst>
              <a:gd name="adj1" fmla="val 5149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742680" y="15746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13120" y="11224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08960" y="96048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08520" y="4199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23080" y="407196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91240" y="4768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92200" y="53942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3360" y="2306520"/>
            <a:ext cx="12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0496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2"/>
          </p:cNvCxnSpPr>
          <p:nvPr/>
        </p:nvCxnSpPr>
        <p:spPr>
          <a:xfrm flipH="1" rot="16200000">
            <a:off x="2321640" y="2161080"/>
            <a:ext cx="843480" cy="1918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6" idx="2"/>
            <a:endCxn id="307" idx="2"/>
          </p:cNvCxnSpPr>
          <p:nvPr/>
        </p:nvCxnSpPr>
        <p:spPr>
          <a:xfrm rot="10800000">
            <a:off x="4926960" y="3718800"/>
            <a:ext cx="749880" cy="2177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1861560" y="3139920"/>
            <a:ext cx="184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360" y="4619520"/>
            <a:ext cx="251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_on_grid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95868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295" idx="3"/>
            <a:endCxn id="312" idx="2"/>
          </p:cNvCxnSpPr>
          <p:nvPr/>
        </p:nvCxnSpPr>
        <p:spPr>
          <a:xfrm>
            <a:off x="5803920" y="117288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6265800" y="110808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7080" y="14112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0" idx="2"/>
            <a:endCxn id="313" idx="4"/>
          </p:cNvCxnSpPr>
          <p:nvPr/>
        </p:nvCxnSpPr>
        <p:spPr>
          <a:xfrm rot="5400000">
            <a:off x="6198480" y="8244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5119920" y="142560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41640" y="3309840"/>
            <a:ext cx="19717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_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16280" y="34480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100400" y="329256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0920" y="5133960"/>
            <a:ext cx="2221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24160" y="5665680"/>
            <a:ext cx="210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21640" y="4602240"/>
            <a:ext cx="213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91240" y="5294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1240" y="5819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0" idx="2"/>
            <a:endCxn id="307" idx="2"/>
          </p:cNvCxnSpPr>
          <p:nvPr/>
        </p:nvCxnSpPr>
        <p:spPr>
          <a:xfrm rot="10800000">
            <a:off x="4926960" y="3718800"/>
            <a:ext cx="749880" cy="1651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8" idx="2"/>
            <a:endCxn id="307" idx="2"/>
          </p:cNvCxnSpPr>
          <p:nvPr/>
        </p:nvCxnSpPr>
        <p:spPr>
          <a:xfrm rot="10800000">
            <a:off x="4926960" y="3718800"/>
            <a:ext cx="749880" cy="1126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296" idx="2"/>
            <a:endCxn id="307" idx="2"/>
          </p:cNvCxnSpPr>
          <p:nvPr/>
        </p:nvCxnSpPr>
        <p:spPr>
          <a:xfrm rot="10800000">
            <a:off x="4926960" y="3718800"/>
            <a:ext cx="767520" cy="556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1077840" y="27208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820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299" idx="0"/>
          </p:cNvCxnSpPr>
          <p:nvPr/>
        </p:nvCxnSpPr>
        <p:spPr>
          <a:xfrm flipH="1" rot="16200000">
            <a:off x="202320" y="3113640"/>
            <a:ext cx="2682000" cy="1851840"/>
          </a:xfrm>
          <a:prstGeom prst="bentConnector3">
            <a:avLst>
              <a:gd name="adj1" fmla="val 88857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327" name=""/>
          <p:cNvCxnSpPr>
            <a:stCxn id="307" idx="2"/>
            <a:endCxn id="324" idx="4"/>
          </p:cNvCxnSpPr>
          <p:nvPr/>
        </p:nvCxnSpPr>
        <p:spPr>
          <a:xfrm flipV="1" rot="16200000">
            <a:off x="2624400" y="1415880"/>
            <a:ext cx="832680" cy="3774240"/>
          </a:xfrm>
          <a:prstGeom prst="bentConnector3">
            <a:avLst>
              <a:gd name="adj1" fmla="val -25735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5:10:08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8-31T10:52:42Z</dcterms:modified>
  <cp:revision>5</cp:revision>
  <dc:subject/>
  <dc:title>CIS/2 Implementation Workshop III,   3-7 April 2000,  Ascot</dc:title>
</cp:coreProperties>
</file>